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1C21-3978-481F-AA22-9AFCADDEC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FD27-CC64-496A-858D-A318FC5D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FD24-22E1-4222-969E-6F23F782C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1DC0-CCD9-441A-A8A9-D6F07483D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A5C7-7728-4530-A0CD-DC613BAD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6DA0-7299-416C-918A-3E599BC9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DC84-A7DD-4001-888F-957A4DED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5D18-56A2-432D-BA82-C4AED95B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8502-7C65-4CD4-902C-5BCE50E2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1DD5-234A-4767-8DEC-F882D448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2F37-CFE6-4DDB-B00D-C7A03E09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A950-A945-47AC-8D98-2CE1AA9D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E3D2-1F57-4CA4-8DD2-2E6AE8624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990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90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0" y="2505240"/>
            <a:ext cx="6858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LDO </a:t>
            </a:r>
            <a:r>
              <a:rPr b="0" lang="en-US" sz="60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200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Black"/>
              </a:rPr>
              <a:t>Lei nº 3.904, de 13/09/2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4640" y="6389640"/>
            <a:ext cx="61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 Black"/>
              </a:rPr>
              <a:t>Publicação  DODF  –           Suplemento ao nº 177,                      de 14/09/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243000" y="863136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 Black"/>
              </a:rPr>
              <a:t>SETEMBRO DE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6600" y="9201240"/>
            <a:ext cx="59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ff"/>
                </a:solidFill>
                <a:latin typeface="Arial"/>
              </a:rPr>
              <a:t>Brasília – Patrimônio Cultural da Humanid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19200" y="163368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trito Fed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867040" y="631800"/>
          <a:ext cx="1152360" cy="100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67040" y="631800"/>
                    <a:ext cx="115236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4:57:14Z</dcterms:created>
  <dc:creator>441104</dc:creator>
  <dc:description/>
  <dc:language>en-US</dc:language>
  <cp:lastModifiedBy>05273-8</cp:lastModifiedBy>
  <dcterms:modified xsi:type="dcterms:W3CDTF">2006-09-20T15:28:32Z</dcterms:modified>
  <cp:revision>18</cp:revision>
  <dc:subject/>
  <dc:title>Slide 1</dc:title>
</cp:coreProperties>
</file>